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6F26-0B26-4866-BFBC-73A9348D4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DB86-293D-4536-B813-C950DE24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BB42-5DFD-43E4-BE5C-DA835B820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A2FF-C77F-40BD-BD15-04020F1EB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EBC6-FAB0-4857-A9BE-CC138D0D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DC40-53D8-4E5F-9F45-E561DA97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6F83-B2D8-41B8-AE41-9CF0754A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DDD5-2A37-434E-BF35-1325E8BD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187D-F2AA-42C6-A532-B8FD09C4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1E4E-95D8-444D-AE6F-26685B48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6C5E-9D51-4256-B0D9-9ADEA377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8C96-6752-4703-83E9-87787B96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3C02-D4C3-4296-90B3-493744A2F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zpravodaj.genderstudies.cz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enderstudies.cz/" TargetMode="External"/><Relationship Id="rId2" Type="http://schemas.openxmlformats.org/officeDocument/2006/relationships/hyperlink" Target="http://www.genderstudies.cz/" TargetMode="External"/><Relationship Id="rId3" Type="http://schemas.openxmlformats.org/officeDocument/2006/relationships/hyperlink" Target="http://zpravodaj.genderstudies.cz/" TargetMode="External"/><Relationship Id="rId4" Type="http://schemas.openxmlformats.org/officeDocument/2006/relationships/hyperlink" Target="http://www.rovneprilezitosti.cz/" TargetMode="External"/><Relationship Id="rId5" Type="http://schemas.openxmlformats.org/officeDocument/2006/relationships/hyperlink" Target="http://www.rovneprilezitosti.ecn.cz/" TargetMode="External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vné příležitosti žen a mužů v ESF projektech Gender Studies, o.p.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r.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ina Bosničov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Ph.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7.07.2011 MPSV Č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948360" y="333360"/>
            <a:ext cx="1486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Gende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„sociální pohlaví“ - něco, co není „od přírody“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(vs. biologické pohlaví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vyjadřuje, že vlastnosti a chování spojované s muži a ženami jsou formovány kulturou a společností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konstruktivismus vs. esencialismu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nderová rovnost/ RP žen a muž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znamená stejnost mužů a ž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namená, že ženy a muži by měli mít v životě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ovné příležit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zi muži a ženami existuje řada rozdílů, ale tyto rozdíly nesmí být důvodem a základem jakékol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skrimin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e společnos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ová rovnost zakotvena v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islativě ČR a 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působ myšle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dlouhodobá záležitost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nderové stereoty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ředstavy o tom, jaké a jací mají ženy a muži být, a jak se mají chov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de se s genderovými stereotypy (a diskriminací na základě pohlaví) často setkáváme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Trh práce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ábor a propouštění, vzdělávání a kariérní postup, vertikální a horizontální segregace pracovního trhu, slaďování osobního a pracovního života, genderový mzdový rozdíl, atd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lit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Mé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Jazyk – generické maskulin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Rodinný život (dělba práce, rodičovství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Vzdělávácí systém (učebn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Jak Gender Studies pracuje s genderem v rámci ESF projektů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plexní klíčové aktivity zaměřené n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šechny cílové skupi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uvisející s pracovním trhem (zaměstnavatelé, zaměstnaní – s  důrazem na tzv. ohrožené cílové skupiny – ((budoucí) rodiče malých dětí, matky (a otcové) po rodičovské dovolené, lidé 50+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der Mainstreaming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říklady aktivit zaměřených na zaměstnavatel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ZITIVNÍ MOTIVAC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eněn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rma roku: Rovné příležitosti a Úřad roku Půl na pů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izac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derových audit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SVĚ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radenstv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 firmy v oblasti podpory rovných příležitostí a slaďování osobního a pracovního života formou osobních, telefonických a e-mailových konzultac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Školen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 firmy a úřady šitá na míru v různých oblastech souvisejících s genderem (gender a marketing, firemní školky, atd.) – pro management i celoplošn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emin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ktronickéh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ěsíčník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vné příležitosti do firem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zpravodaj.genderstudies.cz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) a jeho speciálních tištěných vydá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vorba a vydávání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ávních expertíz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aktických manuál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vízů a 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 manažery a manažer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řádání (mezinárodních) konferencí, kulatých stolů pro fir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AMPANĚ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jiné PR materiá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říklady aktivit zaměřených na ohrožené cílové skupi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ávní poradna „Půl na půl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telefonická, online, osob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nihovna a informační centru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droj informac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Škole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šitá na míru, např. pro  mateřská centra, kde se cílová skupina „zdržuj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vorba a vydávání praktických manuálů a poradců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apř. „Nenechte se diskriminovat“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ydávání novin „Půl na půl“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ři příležitosti oslav Mezinárodního dne rov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řádání konferencí, workshop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MPANĚ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 jiné PR materiál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ěkuji za pozornos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ina.bosnicova@genderstudies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24 915 66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genderstudies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zpravodaj.genderstudies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rovneprilezitosti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rovneprilezitosti.ecn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07:43:36Z</dcterms:created>
  <dc:creator>Medvedici</dc:creator>
  <dc:description/>
  <dc:language>en-US</dc:language>
  <cp:lastModifiedBy>nina</cp:lastModifiedBy>
  <dcterms:modified xsi:type="dcterms:W3CDTF">2011-07-26T07:39:42Z</dcterms:modified>
  <cp:revision>140</cp:revision>
  <dc:subject/>
  <dc:title>Prolomte genderové stereotypy. Dejte talentu šanci.</dc:title>
</cp:coreProperties>
</file>